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3EF-9A33-4C5F-B5AC-ACCD812E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E81-9B5D-415B-A2F5-B899CD2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F22-973F-423D-845C-0387A466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581-6F38-4AFE-9894-87A29F8C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2E6F-AD29-45F5-8F85-5210DDC1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FC51-DB89-469C-A052-8EC784CB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26D1-A45F-4A74-8BEE-F9E6D7D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BDB8-6040-4840-9F2E-783B73A7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AFE3-E877-4CAD-B93C-D173EB9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9F61-26C2-4146-8DF2-48EF771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467A-E9A9-47C4-B8E3-935A228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11E-8F81-45A2-A2A6-362AA291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BD9C-4749-4941-AC46-DF9C016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B1C3-6571-4798-93BC-E19D130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5740-72B4-496B-9BAB-23FE541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DBAC-0FC9-4474-91D5-0F1A4846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5110-9E71-4B08-8B34-0DCF5CB7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52C-932A-4C9E-8955-830D59F0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D06-0797-4714-8B37-61CE3F50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9EC-7701-431C-8143-DEB4D247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39B-2FA0-4864-8202-9B9B7B5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A9B-EF21-4059-95CF-9C72EC5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1B0-8387-4E1B-ABAF-9B5506A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7B9-47D1-4BE3-95E4-C7414060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E320-238D-4178-A70E-302118960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41E-F847-49F4-A2F4-8C190F75A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rebromente.org.br/n17/history/neurons1_i.ht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Coarse Adj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nbdoe</cp:lastModifiedBy>
  <dcterms:modified xsi:type="dcterms:W3CDTF">2008-09-22T15:45:53Z</dcterms:modified>
  <cp:revision>30</cp:revision>
  <dc:subject/>
  <dc:title>Slide 1</dc:title>
</cp:coreProperties>
</file>