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47F-DF01-4ABA-9FAB-0A73BF9A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16E-E18D-4680-8E58-657CCF73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CFC-1259-42DB-9801-0AC9D4AF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BCE-C5F3-4AFA-9DD5-FCAD2701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E182-ACE7-42F4-A1C0-C26DAF38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DAD0-1E27-4C69-A5FB-C9B6E7FA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1F83-85BE-49BA-8D8C-54B25E24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11BB-D160-40A8-9FB7-BB3861AF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7132-0492-43FF-A60A-1254D2B0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2B70-3347-4681-9A5F-FB814D8E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5A25-B174-4A4F-831F-E74A299B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BBE-C4CF-4E7A-B2A4-6A182962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6167-5C0C-496E-9AD3-C7CE19DC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D015-4D27-4383-B4BD-6F552FBF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91B2-1C94-40B9-B5E7-46D158BF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9DF6-2B46-4670-A09B-401A375F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230D-F7F9-4A83-BEC2-9A0A3782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CFC-CD89-4890-972C-82C44361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188-1C93-46ED-B046-5597DBC7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1C8-6D69-4DE3-BE18-9D73881E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10E-BA43-4BC4-9C54-C074E391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633-E528-41C5-840F-9B381656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62C-C7F0-45FB-9701-055D9EE4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BA1-7F48-4DD4-B36C-D137BFAB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5D8B-8B0B-435A-BA89-EEB6FA33F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7F8B-5EAF-4759-8056-E0EA4740B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erebromente.org.br/n17/history/neurons1_i.htm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Arial"/>
                <a:hlinkClick r:id="rId2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35200" y="56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Ocular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Coarse Adj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6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nbdoe</cp:lastModifiedBy>
  <dcterms:modified xsi:type="dcterms:W3CDTF">2008-09-22T15:45:53Z</dcterms:modified>
  <cp:revision>30</cp:revision>
  <dc:subject/>
  <dc:title>Slide 1</dc:title>
</cp:coreProperties>
</file>