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F74-91B2-429C-BA24-3C197F09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AA8-A511-49BE-B57A-06F8F92E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1CF-B128-4171-9CF2-441C3817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A1B-9C37-4A8E-AC33-753C14B9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3E27-8805-48DB-86D3-D983AE50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6677-A30E-4C5F-9DEF-C0E760D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7427-19CD-4DA3-8A01-55AC28D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84B-9F3F-4AAA-A0BD-14AC1E61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F4EB-888B-4D42-9917-EADE775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849C-8A69-43E5-AE10-F1432D83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586-7FEE-4147-B972-A27526B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4D9-0ACC-4B1C-A548-485D2B6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B7CE-15D8-42EB-A1D4-CD5AD79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C68-069B-4C83-BCB6-E45BD14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0D0D-43B8-484A-8572-B9F1C0E8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36B5-05A2-49A4-A191-2BE29E8F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DA3F-B75C-4AF4-BFBE-61477BD1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47C-03D0-4BE6-85FF-48207DD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94F-3B6A-4532-96C2-C8DD362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652-A6D1-44B8-8AD3-69A2FDEF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AC9-E550-4DA7-8557-B9B94AE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295-B6E7-4B3A-AEE5-5604AF7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48C-97E0-4531-B907-EC9661BF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E68-E13A-4199-875A-8655CDE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61CC-5B4D-49D0-87BF-AEC6C42D0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980-B89E-4C7F-92EC-56AD19F48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erebromente.org.br/n17/history/neurons1_i.ht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Arial"/>
                <a:hlinkClick r:id="rId2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Coarse Adj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nbdoe</cp:lastModifiedBy>
  <dcterms:modified xsi:type="dcterms:W3CDTF">2008-09-22T15:45:53Z</dcterms:modified>
  <cp:revision>30</cp:revision>
  <dc:subject/>
  <dc:title>Slide 1</dc:title>
</cp:coreProperties>
</file>