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1FA-5B81-464F-B5CA-074A010A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FD1-F6AD-45B9-BCF9-BAA6AC52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4EC-4D43-4DAC-B525-49F14C4F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303-D26D-48F9-8000-37E5C44E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D0C7-5CB2-4ACB-96F5-FD26640B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08BF-785C-4DCD-AFEF-31A4E582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8CDF-71AE-4355-96BA-E29C264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C0FB-CE1A-4385-BC45-5040585C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804-EBE6-48D6-92E6-BC625524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6F47-A93A-48E5-BF09-9B5AFE5B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1E3C-8753-49E8-81E9-C5E22A0D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F84-AD4E-45C8-B382-712B1AD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3EE1-668C-41FB-AF7F-35D6D3D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ACCA-2312-4CBA-BE94-4476F2D8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7F4-772B-4177-8DD2-395AFB42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A356-61FA-4667-B18A-46EFCC84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BC12-CDB6-4220-BA7A-E7EB87E7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977-0445-459C-9924-FB079C70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31E-C40C-4181-8310-F4E4CAAE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0BD-41CF-4962-8539-D26CB6EB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976-9D2A-458A-8356-E7B2D9D2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C2F-77EE-4AA4-A58B-B9C004F3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5D9-F661-4177-B71B-1BFA674D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98E-B003-4556-B0E2-93CD7E7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C4AC-3204-4698-AAFF-A96C561C0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C4FB-D361-4F18-8838-68239260E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erebromente.org.br/n17/history/neurons1_i.htm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Coarse Adj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nbdoe</cp:lastModifiedBy>
  <dcterms:modified xsi:type="dcterms:W3CDTF">2008-09-22T15:45:53Z</dcterms:modified>
  <cp:revision>30</cp:revision>
  <dc:subject/>
  <dc:title>Slide 1</dc:title>
</cp:coreProperties>
</file>